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11C5C-A732-4595-B0DA-FC98F6653A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840E2-6DFA-4B9F-9992-D4592AD111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6C84C-E6F8-46BE-8218-8A1CF9E2A1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92534-58C3-45D8-A70F-20F062EC10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7B7CF-6625-41B4-AC57-333F55B3D0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13CCD-1F21-48EB-9265-5485B2AE12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10D2F-120F-49DA-AA2F-DCDF77158A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79048-D1D4-4BE8-A7C2-28E7C659CE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04125-ABBF-4774-92ED-2716BD2C1C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065AD-48B3-4A17-B0CC-B8958C7E52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26E2F-E24B-4F62-AE31-844B0784C9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CE91B-ADBC-47B2-BFFC-159E38BD71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AE4E5-8060-40EF-ACEF-73DD4BB1D4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89821-F4CF-4D1B-AD63-6285DCB4F4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765AF-D433-4C42-A2BA-6896D63027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CBF1B-CD4A-4D10-8F0A-E7E1689F8D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A92A0-0CD9-4800-B5E8-6093B2B961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F697F-4F3B-46E4-9E97-BF6EFAAA64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A6D6B-7161-49AE-AB36-786219AC4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F59AD-B76D-45AB-9E87-E26BA800ED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239A8-4370-4123-8578-112837BC0E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FEA55-4360-4A95-92C2-48BF3CB0D9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A0104-C633-4462-AB10-5D483B182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83D7E-504C-4A58-A471-40A7F71AD7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564CF-2BC6-4678-BA14-63F054ACF4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4184E-B5DD-4868-8E3F-AE2D1D000A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D2828-0993-4AFB-AE4A-4D28A4C684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5863E-4A27-4A44-9F62-A69C524F39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37DE-B18D-4E3A-BA57-E172606FA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DB92-BA5C-4417-820E-1CAFFD19D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97B4-325F-4885-BC20-04271D236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913C-5C90-40E0-A61E-1F61AFC38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397F-02D0-488D-BFB1-452BCC03DC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C05A-5200-4FC7-94AE-EB6350D956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6BAE-EF50-44DE-904D-957959605E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C3CF-62F0-4293-A045-4949C4C956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2F79-3B1C-4E09-AE27-D74170B34E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DDAB-10D4-46ED-AB04-53BF371D02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6FC1-3BC6-41CD-B3EA-532398A57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1415-C6F4-4B95-AB15-06142F9FA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EC3A-B123-4DF3-B240-100C56ECD7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88F2-ED3A-4E0A-9169-EC06FB0D9F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B381-08A8-4DF2-8E26-0642DE5FCE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6F0F-3B20-4311-B6E3-27A6D37EC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0389-B09A-40D2-A5BB-4805EBBBE3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559-853E-4C05-AC04-8AE21A143B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BD0-55F1-48CE-80B8-2B5AE713E5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287-4A04-43AA-8B86-006690BFC1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B8D-DBFB-432D-AEDD-2F01E7B594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295-48C6-470A-8F59-9FB0E545D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4956-379C-497D-98A9-0C224DFC76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89E-B87E-43C1-A76C-25B89410AE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CEE-4661-430B-B37B-DF5EB6F17B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CE0-ABEE-4058-A384-6E717B5B7F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DD1-7098-41BF-90E4-A2A3FD9F94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26A-737F-4639-83B4-ED727DAF5E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755-465D-4F0B-A470-3691B69DC2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E28-3E53-4060-A226-07BF3F244A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BEA60-F031-40B4-B125-2672CA5E57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842FC-2D95-4F99-A3E3-B54751E29C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9F406-B50C-4F04-A855-60EF4B471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36B0-FE70-46E0-83F8-75E9551E1C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E6A0C-299D-4611-A61D-32846DEBF2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79AA3-8E5A-400D-8966-3122A7D4B1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20CA2-C2F1-4F6F-B060-1CA994079F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6EFF5-60AB-4308-A783-A378444948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7D9A7-7A7B-42CC-A544-49D64DAE8A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99B2D-8AD2-4E07-94BA-536C11F914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98315-55BD-4E29-A695-0258C839F0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D1C10-8C58-423B-8BB0-1F5CEA5CB8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DB964-08C4-48B1-91C1-26A35122E5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271C5-0709-4EDF-AB8D-FB3687C3E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6709-172B-4F30-89A1-5B256020C24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51F18-1945-4282-A4F7-B06B82F5B1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2DACD-7B90-4580-8E5E-15CFA6F702A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0AD12-9DC7-47D8-916C-740AE98126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8FCAC-1D78-4A7D-ADFC-BF67E0A9AC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2623E-EF17-4826-AB32-D1EE92E47A3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72493-23C2-4E38-B86D-056FE2340F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20751-7C94-4927-89D7-D995ABE3DE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4E919-4ACF-4236-91C6-AFF889AF122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944CB-D816-4443-B015-D0040D12EA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8F466-537A-4333-B8FC-9A8246826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B456-3893-4A60-8EFF-969C2FC22F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78798-8414-4672-A377-6975D31B99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94F9-FBD7-4FA9-8854-8F8CC426E3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B6EE-2717-41E5-B585-F3E33EB71A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37F-2C5E-4791-828B-002A595B4B5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14A5-9681-430A-81DC-544E5F46398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2921-A31E-4E67-9183-AA8A1A27850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6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6EBD-30DC-4373-AF85-004CAC3EAF3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3F5C-01D4-437D-A5B3-B281927FC6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186E-7264-45DF-8C00-EFFC5E06E4A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81E2-4448-466C-A6F0-A3C4A7D15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2438-62C1-4AB9-A368-4531FF6D1A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3532-F13A-4B87-90FC-CF3E4682F4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9E80-9950-4A53-9BB7-C11F5C417C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3696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02520" y="23810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7140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03696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02520" y="4614840"/>
            <a:ext cx="2252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66F9-DECE-40CF-879A-C2633F2BF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6280" y="46148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4B40-98BE-454E-ACDE-7B12F30FD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6280" y="2381040"/>
            <a:ext cx="34138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4614840"/>
            <a:ext cx="69962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462C-157F-4266-A558-322D1455C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1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5959440" y="6659640"/>
            <a:ext cx="75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671400" y="6659640"/>
            <a:ext cx="5097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1"/>
          </p:nvPr>
        </p:nvSpPr>
        <p:spPr>
          <a:xfrm>
            <a:off x="7103880" y="6659280"/>
            <a:ext cx="5634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0D8F0-4D6E-4ADA-82C3-7740CFB1FB4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53" name="Line 2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5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6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1"/>
            <p:cNvSpPr/>
            <p:nvPr/>
          </p:nvSpPr>
          <p:spPr>
            <a:xfrm>
              <a:off x="-9360" y="-9360"/>
              <a:ext cx="950760" cy="627984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959440" y="6659640"/>
            <a:ext cx="75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71400" y="6659640"/>
            <a:ext cx="5097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7103880" y="6659280"/>
            <a:ext cx="5634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3FFBCB-E33A-40A4-8C48-54AEF21B3B4E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105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 Box 12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959440" y="6659640"/>
            <a:ext cx="75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71400" y="6659640"/>
            <a:ext cx="5097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3"/>
          </p:nvPr>
        </p:nvSpPr>
        <p:spPr>
          <a:xfrm>
            <a:off x="7103880" y="6659280"/>
            <a:ext cx="5634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439BDE-2354-473E-A736-BDFF20B45802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159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 Box 12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5959440" y="6659640"/>
            <a:ext cx="75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71400" y="6659640"/>
            <a:ext cx="5097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7103880" y="6659280"/>
            <a:ext cx="5634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65D5ED-EBE0-42A6-9BB7-747D3BD7F6E1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213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5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186E5-6BCD-4556-A053-9779451CA1EE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-9360" y="-9360"/>
            <a:ext cx="10109160" cy="7576920"/>
            <a:chOff x="-9360" y="-9360"/>
            <a:chExt cx="10109160" cy="7576920"/>
          </a:xfrm>
        </p:grpSpPr>
        <p:sp>
          <p:nvSpPr>
            <p:cNvPr id="265" name="Freeform 2"/>
            <p:cNvSpPr/>
            <p:nvPr/>
          </p:nvSpPr>
          <p:spPr>
            <a:xfrm>
              <a:off x="-9360" y="4424400"/>
              <a:ext cx="502920" cy="3143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3"/>
            <p:cNvSpPr/>
            <p:nvPr/>
          </p:nvSpPr>
          <p:spPr>
            <a:xfrm flipV="1">
              <a:off x="5656320" y="4600440"/>
              <a:ext cx="4432320" cy="2959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"/>
            <p:cNvSpPr/>
            <p:nvPr/>
          </p:nvSpPr>
          <p:spPr>
            <a:xfrm>
              <a:off x="7764480" y="0"/>
              <a:ext cx="1341360" cy="75582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"/>
            <p:cNvSpPr/>
            <p:nvPr/>
          </p:nvSpPr>
          <p:spPr>
            <a:xfrm>
              <a:off x="7597800" y="0"/>
              <a:ext cx="2500200" cy="7567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6"/>
            <p:cNvSpPr/>
            <p:nvPr/>
          </p:nvSpPr>
          <p:spPr>
            <a:xfrm>
              <a:off x="7942320" y="-9360"/>
              <a:ext cx="2146320" cy="7567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7"/>
            <p:cNvSpPr/>
            <p:nvPr/>
          </p:nvSpPr>
          <p:spPr>
            <a:xfrm>
              <a:off x="7318440" y="4321080"/>
              <a:ext cx="2768400" cy="32371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7728120" y="-9360"/>
              <a:ext cx="2360520" cy="7567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9"/>
            <p:cNvSpPr/>
            <p:nvPr/>
          </p:nvSpPr>
          <p:spPr>
            <a:xfrm>
              <a:off x="9145440" y="-9360"/>
              <a:ext cx="943200" cy="7567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0"/>
            <p:cNvSpPr/>
            <p:nvPr/>
          </p:nvSpPr>
          <p:spPr>
            <a:xfrm>
              <a:off x="8923320" y="-9360"/>
              <a:ext cx="1174680" cy="7567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1"/>
            <p:cNvSpPr/>
            <p:nvPr/>
          </p:nvSpPr>
          <p:spPr>
            <a:xfrm>
              <a:off x="8894880" y="5394240"/>
              <a:ext cx="1204920" cy="21639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624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1400" y="2381040"/>
            <a:ext cx="699624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53E5D-DE8A-421C-9B1E-225E37AE09BC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44360" y="900000"/>
            <a:ext cx="88567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7b0e4"/>
                </a:solidFill>
                <a:latin typeface="Arial"/>
              </a:rPr>
              <a:t>Методы и формы сопровождения одаренных детей на уроках биологии и внеуроч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шина Наталья Владимиро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«Профильный лицей № 24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 Рубцовс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0" y="301680"/>
            <a:ext cx="85694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fcbef"/>
                </a:solidFill>
                <a:latin typeface="Trebuchet MS"/>
              </a:rPr>
              <a:t>Результаты исследовательской деятельн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093680" y="2016000"/>
            <a:ext cx="1570320" cy="2200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3456000" y="2087640"/>
            <a:ext cx="1655640" cy="2087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1152360" y="4608360"/>
            <a:ext cx="1295640" cy="1944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3456000" y="4457880"/>
            <a:ext cx="1584360" cy="2093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5"/>
          <a:stretch/>
        </p:blipFill>
        <p:spPr>
          <a:xfrm>
            <a:off x="6480000" y="2376360"/>
            <a:ext cx="288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576360" y="2619360"/>
            <a:ext cx="40384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отрудничество с МБОУ  «СОШ № 1» участие в ежегодном окружном конкурсе исследовательских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807080" y="2619360"/>
            <a:ext cx="3958920" cy="3240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360360" y="287280"/>
            <a:ext cx="871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с одаренными деть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647640" y="2054160"/>
            <a:ext cx="51847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трудничество с учреждениями дополнительного образования ЦВР «Малая Академ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360360" y="287280"/>
            <a:ext cx="6912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с одаренными деть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647640" y="4176720"/>
            <a:ext cx="2303640" cy="2592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3262320" y="4583160"/>
            <a:ext cx="1584360" cy="1778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3"/>
          <a:stretch/>
        </p:blipFill>
        <p:spPr>
          <a:xfrm>
            <a:off x="5157720" y="4356000"/>
            <a:ext cx="1168560" cy="1679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4"/>
          <a:stretch/>
        </p:blipFill>
        <p:spPr>
          <a:xfrm>
            <a:off x="6821640" y="2413080"/>
            <a:ext cx="22348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17640" y="1979640"/>
            <a:ext cx="8422920" cy="26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едметная неделя по биологии и эколог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178600" y="352728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9440" y="3527280"/>
            <a:ext cx="4103640" cy="31672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0" y="923760"/>
            <a:ext cx="82090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с одаренными деть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6"/>
          <p:cNvSpPr/>
          <p:nvPr/>
        </p:nvSpPr>
        <p:spPr>
          <a:xfrm>
            <a:off x="287280" y="39528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SimSun"/>
              </a:rPr>
              <a:t>Индивидуальная программа сопровождения школьника по подготовке к участию в предметных олимпиадах и интеллектуальных конкурс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109520" y="2951280"/>
          <a:ext cx="6121440" cy="3502080"/>
        </p:xfrm>
        <a:graphic>
          <a:graphicData uri="http://schemas.openxmlformats.org/drawingml/2006/table">
            <a:tbl>
              <a:tblPr/>
              <a:tblGrid>
                <a:gridCol w="1528920"/>
                <a:gridCol w="1530360"/>
                <a:gridCol w="1530360"/>
                <a:gridCol w="1531800"/>
              </a:tblGrid>
              <a:tr h="4352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яц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держание деятельност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лни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жида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00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ентя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биологии и эк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6254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тя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биологии и эк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школьном этапе ВОШ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о Всесибирской окрытой олимпиаде школьник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719280" y="1547640"/>
          <a:ext cx="6626160" cy="551052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  <a:gridCol w="1749600"/>
              </a:tblGrid>
              <a:tr h="2978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оя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муниципальном этапе ВОШ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выполнению исследовательской работы по эколог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ая беседа с родителям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В, психоло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учение навыков научно-исследовательской деятельност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322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ка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биологии и эк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ая консультация по оформлению работы и презентац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тель информати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витие творческих способност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503280" y="466560"/>
          <a:ext cx="6913440" cy="687240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7280"/>
                <a:gridCol w="1730160"/>
              </a:tblGrid>
              <a:tr h="2476800"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нварь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идуальные консультации по биологии и экологи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о-педагогическое сопровождение с целью развития навыков публичного выступления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вышение самооценки, получение навыков исследовательской деятельности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20600"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враль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региональном  этапе ВОШ по экологии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окружном этапе 19 краевой олимпиады естественнонаучной направленности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 В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75000"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нятие с психологом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краевом  этапе 19 краевой олимпиады естественнонаучной направленности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готовка к ОГЭ по биологии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В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витие коммуникативных навыков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знание собственных возможностей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глубление знаний по предмету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76360" y="1619280"/>
          <a:ext cx="7127640" cy="4897440"/>
        </p:xfrm>
        <a:graphic>
          <a:graphicData uri="http://schemas.openxmlformats.org/drawingml/2006/table">
            <a:tbl>
              <a:tblPr/>
              <a:tblGrid>
                <a:gridCol w="1780920"/>
                <a:gridCol w="1783080"/>
                <a:gridCol w="1780920"/>
                <a:gridCol w="1782720"/>
              </a:tblGrid>
              <a:tr h="265752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прел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астие в школьной научно-практической конференции «Человек. Земля. Социум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шина Н.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учение навыков публичного выступл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3992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о-педагогическое тестирование по профильной ориентац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сихоло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пределение профиля дальнейшего обуч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" descr=""/>
          <p:cNvPicPr/>
          <p:nvPr/>
        </p:nvPicPr>
        <p:blipFill>
          <a:blip r:embed="rId1"/>
          <a:stretch/>
        </p:blipFill>
        <p:spPr>
          <a:xfrm>
            <a:off x="0" y="-963720"/>
            <a:ext cx="10080720" cy="9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360360" y="1440000"/>
            <a:ext cx="46800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аренность - это системное, развивающееся в течение жизни качество психики, которое определяет возможность достижения человеком более высоких (необычных, незаурядных) результатов в одном или нескольких видах деятельности по сравнению с другими люд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5256360" y="1440000"/>
            <a:ext cx="388764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31640" y="2035080"/>
            <a:ext cx="928872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йствие в выявлении, поддержке и развитии их таланта, их самореализации, профессиональном самоопределении, сохранении психологического и физического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21600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fcbef"/>
                </a:solidFill>
                <a:latin typeface="Trebuchet MS"/>
              </a:rPr>
              <a:t>Педагогическое сопровождение одаренных дет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0328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3840"/>
                <a:tab algn="l" pos="627120"/>
                <a:tab algn="l" pos="1130400"/>
                <a:tab algn="l" pos="1633680"/>
                <a:tab algn="l" pos="2136600"/>
                <a:tab algn="l" pos="2639880"/>
                <a:tab algn="l" pos="3143160"/>
                <a:tab algn="l" pos="3646440"/>
                <a:tab algn="l" pos="4149720"/>
                <a:tab algn="l" pos="4653000"/>
                <a:tab algn="l" pos="5156280"/>
                <a:tab algn="l" pos="5659560"/>
                <a:tab algn="l" pos="6162840"/>
                <a:tab algn="l" pos="6665760"/>
                <a:tab algn="l" pos="7169040"/>
                <a:tab algn="l" pos="7672320"/>
                <a:tab algn="l" pos="8175600"/>
                <a:tab algn="l" pos="8678880"/>
                <a:tab algn="l" pos="9182160"/>
                <a:tab algn="l" pos="9685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3000"/>
              </a:lnSpc>
              <a:spcBef>
                <a:spcPts val="1100"/>
              </a:spcBef>
              <a:tabLst>
                <a:tab algn="l" pos="0"/>
                <a:tab algn="l" pos="123840"/>
                <a:tab algn="l" pos="627120"/>
                <a:tab algn="l" pos="1130400"/>
                <a:tab algn="l" pos="1633680"/>
                <a:tab algn="l" pos="2136600"/>
                <a:tab algn="l" pos="2639880"/>
                <a:tab algn="l" pos="3143160"/>
                <a:tab algn="l" pos="3646440"/>
                <a:tab algn="l" pos="4149720"/>
                <a:tab algn="l" pos="4653000"/>
                <a:tab algn="l" pos="5156280"/>
                <a:tab algn="l" pos="5659560"/>
                <a:tab algn="l" pos="6162840"/>
                <a:tab algn="l" pos="6665760"/>
                <a:tab algn="l" pos="7169040"/>
                <a:tab algn="l" pos="7672320"/>
                <a:tab algn="l" pos="8175600"/>
                <a:tab algn="l" pos="8678880"/>
                <a:tab algn="l" pos="9182160"/>
                <a:tab algn="l" pos="9685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03280" y="4452840"/>
            <a:ext cx="90709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явление одаренных уче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оптимального развития одаренных детей, чья одаренность на данный момент может быть еще не проявившейся, а также просто способны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5975280" y="3516480"/>
            <a:ext cx="254628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Этапы выявления одаренных дет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720720" y="1474920"/>
            <a:ext cx="842328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I этап (в рамках урок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31640" y="2050920"/>
            <a:ext cx="9072720" cy="66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Методы рабо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облемны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ично - поисковы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4630680" y="3117960"/>
            <a:ext cx="3805200" cy="3195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936720" y="4716360"/>
            <a:ext cx="317340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503280" y="1728720"/>
            <a:ext cx="9072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II этап (внеурочные формы работы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 ребенка появляется возможность в полную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илу проявить себя, раскрыть свои талан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503280" y="3600360"/>
            <a:ext cx="4824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II этап (заключительный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абота с узким кругом учеников, которые проявили свои способности и заинтересовались предмет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576360"/>
            <a:ext cx="921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Этапы выявления одаренных дет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5400720" y="4102200"/>
            <a:ext cx="317340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287280" y="650880"/>
            <a:ext cx="813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Формы работы с одаренными деть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287280" y="1728720"/>
            <a:ext cx="84250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чебно-тренировочные занятия для учащихся 7-11 классов, готовящихся к предметным олимпиадам, конкурса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541440" y="3456000"/>
            <a:ext cx="3959280" cy="3456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5111640" y="345600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501480"/>
                <a:tab algn="l" pos="1004760"/>
                <a:tab algn="l" pos="1508040"/>
                <a:tab algn="l" pos="2011320"/>
                <a:tab algn="l" pos="2514600"/>
                <a:tab algn="l" pos="3017880"/>
                <a:tab algn="l" pos="3521160"/>
                <a:tab algn="l" pos="4024440"/>
                <a:tab algn="l" pos="4527720"/>
                <a:tab algn="l" pos="5030640"/>
                <a:tab algn="l" pos="5533920"/>
                <a:tab algn="l" pos="6037200"/>
                <a:tab algn="l" pos="6540480"/>
                <a:tab algn="l" pos="7043760"/>
                <a:tab algn="l" pos="7547040"/>
                <a:tab algn="l" pos="8050320"/>
                <a:tab algn="l" pos="8553600"/>
                <a:tab algn="l" pos="9056520"/>
                <a:tab algn="l" pos="9559800"/>
                <a:tab algn="l" pos="1006308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Результаты участия во </a:t>
            </a:r>
            <a:br>
              <a:rPr sz="3200"/>
            </a:br>
            <a:r>
              <a:rPr b="1" i="1" lang="ru-RU" sz="32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Всероссийской олимпиаде по биологии и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216000" y="2232000"/>
            <a:ext cx="864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2 победителя, 4 приз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7-2018 уч. г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3 победителя, 5 призе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егиональном этапе по эк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сыгина Анастасия (9 класс) победи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7 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2735280" y="4896000"/>
            <a:ext cx="37432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431640" y="2376360"/>
            <a:ext cx="460872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учащихся 5-6 классов в соответствии с требованиями ФГОС работа с одаренными и способными учащимися состоит в организации внеурочной деятельности по программе «Я — исследовател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183280" y="2376360"/>
            <a:ext cx="2952720" cy="3672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3"/>
          <p:cNvSpPr/>
          <p:nvPr/>
        </p:nvSpPr>
        <p:spPr>
          <a:xfrm>
            <a:off x="-289080" y="82692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с одаренными деть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503280" y="2498760"/>
            <a:ext cx="43196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 учащихся 7-11 классов организация научно - исследовательской деятельности и работа в школьном НОУ «Кванту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-431640" y="82692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Формы рабо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7b0e4"/>
                </a:solidFill>
                <a:latin typeface="Times New Roman"/>
                <a:ea typeface="Times New Roman"/>
              </a:rPr>
              <a:t>с одаренными деть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4608360" y="240192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0T13:04:37Z</dcterms:created>
  <dc:creator/>
  <dc:description/>
  <dc:language>en-US</dc:language>
  <cp:lastModifiedBy>teacher</cp:lastModifiedBy>
  <dcterms:modified xsi:type="dcterms:W3CDTF">2017-12-22T03:48:46Z</dcterms:modified>
  <cp:revision>13</cp:revision>
  <dc:subject/>
  <dc:title>Презентация PowerPoint</dc:title>
</cp:coreProperties>
</file>